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35B-7181-4B50-BCB1-9C2F3352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A27-B1DC-44E4-9468-AF91A13C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9A6-EE5C-4F80-9544-FE847683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A4F-B819-4F98-B2D9-3BDAD865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215-F846-4157-928C-1F7A31CF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7E7-41DD-42C3-8D6D-A00783F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9A1-C687-4EF1-96C7-DAC43A3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6FD-9201-48C5-8A5C-F72E39D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4DE-6049-40C1-9F93-CB5A1E5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A22-69AD-4F4F-BB36-D6D7990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E21-1E40-4B1A-ADAF-B693700D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8A0-5A35-45D3-995F-45E81D9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915862-7DD9-4494-8AA5-F26C8E7C0F5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6845400"/>
            <a:ext cx="198720" cy="240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22680" y="983520"/>
            <a:ext cx="163512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ylvester III (1045) –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Considered by some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 an antipo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4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I (1045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I (1046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47-4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Damasus II (104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X (1049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Victor II (1055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X (1057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I (1058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II (1061-7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VII (1073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Victor III (1086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Urban II (1088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aschal II (1099-11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Gelasius II (1118-1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allistus II (1119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I (1124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I (1130-4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I (1143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cius II (1144-4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Eugene III (1145-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nastasius IV (115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7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drian IV (1154-5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7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lexander III (1159-8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cius III (1181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III (1185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III (11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II (1187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II (1191-9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II (1198-121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II (1216-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IX (1227-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V (12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V (124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IV (1254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IV (1261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V (1265-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Gregory X (1271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Innocent V (12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V (12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XI (1276-7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II (1277-8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tin IV (1281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V (1285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V (1288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Celestine V (129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VIII (1294-13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Benedict XI (1303-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 (1305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XII (1316-3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I (1334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I (1342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VI (1352-6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Urban V (1362-7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 (1370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 (1378-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IX (1389-14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VII (1404-0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I (1406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tin V (1417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0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Eugene IV (1431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0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Nicholas V (144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allistus III (1455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ius II (1458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aul II (1464-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Sixtus IV (1471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4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Innocent VIII (1484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5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lexander VI (1492-15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6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ius III (15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7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Julius II (1503-1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eo X (1513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drian VI (1522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2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lement VII (1523-3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1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aul III (1534-4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2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Julius III (1550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3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Marcellus II (15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IV (1555-5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1720" y="983520"/>
            <a:ext cx="153360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Vitalian (65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eodatus (II) (672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Donus (676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Agatho (678-8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I (682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Benedict II (684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 (685-8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onon (686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Sergius I (687-70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 (701-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I (705-0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isinnius (70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onstantine (708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II (715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III (731-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Zachary (741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I (752) -- He di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fore being consecrated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some lists (including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Vatican's official) omit hi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II (752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aul I (757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V (76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I (772-9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II (795-81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 (816-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aschal I (817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Eugene II (824-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Valentine (8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IV (827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ergius II (844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V (84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II (855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Nicholas I (the Great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858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II (86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II (872-8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inus I (882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Adrian III (884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 (885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Formosus (891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VI (8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I (896-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Romanus (8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Theodore II (8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IX (898-90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1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Benedict IV (900-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eo V (9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Sergius III (904-1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nastasius III (911-1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ando (913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John X (914-2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 (92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II (929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 (931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I (936-3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X (939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inus II (942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gapetus II (946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I (955-6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II (963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 (9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II (965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 (973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I (974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V (983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 (985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 (996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ylvester II (999-10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II (10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III (1003-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ergius IV (1009-1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II (1012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X (1024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32-45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nedict IX appears on th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list three separate tim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cause he was twi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removed and restor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see 148 &amp; 15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82080"/>
            <a:ext cx="159696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an Pedro (33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inus (67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acletus (Cletus) (76-8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lement I (88-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varistus (97-1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lexander I (105-1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 (115-125) – als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called Xystus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Telesphorus (125-1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yginus (136-1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Pius I (140-1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icetus (155-16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oter (166-17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leutherius (175-1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Victor I (189-1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Zephyrinus (199-2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allistus I (217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Urban I (222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Pontain (230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terus (235-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abian (236-5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ornelius (251-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ucius I (25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tephen I (254-2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I (257-2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ionysius (260-2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 (269-2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tychian (275-2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aius (283-296) -- als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called Ga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ellinus (296-3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ellus I (308-3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sebius (309 or 3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iltiades (311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ylvester I (314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us (3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Julius I (337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Liberius (352-6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amasus I (366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ricius (384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astasius I (399-40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Innocent I (401-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Zosimus (417-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Boniface I (418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elestine I (422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II (432-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eo I (the Great) (440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ilarius (461-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mplicius (468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II (II) (483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Gelasius I (492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Anastasius II (496-9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ymmachus (498-5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ormisdas (514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John I (523-2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V (III) (526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II (530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I (533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gapetus I (535-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also called Agapitus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lverius (536-3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Vigilius (53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Pelagius I (556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II (561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enedict I (575-7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Pelagius II (579-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Gregory I (590-6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binian (604-60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III (60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Boniface IV (608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eusdedit (Adeodatus I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(615-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V (619-2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Anti-Pope “Honorius I”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(625-38) see Constantinople I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inus (6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V (640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Theodore I (642-4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tin I (649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gene I (655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5240" y="189000"/>
            <a:ext cx="6181920" cy="241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sta de Papas de la Iglesia Catolica Romana … El Papado fue establecido por Jesucristo en 33 A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1840" y="519120"/>
            <a:ext cx="5508720" cy="41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atolico San Mateo 16:18-19 &gt;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Te digo a ti: Tu eres Pedro, y sobre esta roca construire mi Iglesia, y las puertas del infierno 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revaleceran contra Ella … Y te dare a ti las llaves del Reino de los Cielos y lo que atares en la tierra, sera atado en los ciel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y lo que desatares en la tierra, sera desatado en los ciel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6244560"/>
            <a:ext cx="16002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Lista parcial de l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erejias anti-Cristo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echas por hombres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Arian herejia - 3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Pelagian herejia - 4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Nestorian herejia - 4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Monothelite herejia - 6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Mohammedan herejia - 6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Iconoclast herejia - 72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Eastern ‘orthodox’ - 105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Albigensian herejia - 117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Hussite herejia - 14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theran herejia - 15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Anglican herejia - 153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resbyterian herejia - 156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Baptist herejia - 160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Reformed herejia - 16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ethodist herejia - 17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Episcopalian herejia - 178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Mormon herejia - 18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Seventh Day herejia - 183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Salvation Army herejia - 18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Jehovah witness herejia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- 188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Pentecostal herejias - 19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Vatican-2 herejia - 19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3920" y="6369120"/>
            <a:ext cx="1587600" cy="291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471680" y="5185800"/>
            <a:ext cx="8350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* Tito 3:10-11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El hombre que es hereje, despues de la primera y segunda admonicion, ignorarlo … Sabiendo que el es sobervio y peca, siendo condenado por su propio juici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89000"/>
            <a:ext cx="495360" cy="70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03920" y="5637240"/>
            <a:ext cx="1589040" cy="626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1ra De Timoteo 3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 Iglesia del Dios Vivien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l pilar y terre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 la ver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54920" y="189000"/>
            <a:ext cx="495360" cy="70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0400" y="9353520"/>
            <a:ext cx="177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ttp://Immaculata-on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3120" y="987120"/>
            <a:ext cx="16088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IV (1559-6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ius V (1566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II (1572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ixtus V (1585-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I (15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V (1590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X (15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III (1592-16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 (16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V (1605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V (1621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II (1623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 (1644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VII (1655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X (1667-6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 (1670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Innocent XI (1676-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VIII (1689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II (1691-170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 (1700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III (1721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II (1724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I (1730-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V (1740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II (1758-6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0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Clement XIV (1769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1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ius VI (1775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2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ius VII (1800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I (1823-2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VIII (1829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VI (1831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ope Pius IX (1846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II (1878-19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ius X (1903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V (1914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XI (1922-39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XII (1939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John XXIII (1958-63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VI (1963-78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Paul I (1978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Paul II (1978-2005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VI (2005 - 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2160" y="9567720"/>
            <a:ext cx="61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El " * " indica que estos individuos cometieron pecados de omicion y comicion en contra de la Dogma Catolica De Salvacion, que tienes que s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Catolico para llegar al cielo ... les causa en incurrir una automatica ex-comunion por herej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4:13:20Z</dcterms:created>
  <dc:creator>Mike Bizzaro</dc:creator>
  <dc:description/>
  <dc:language>en-US</dc:language>
  <cp:lastModifiedBy>Michael Bizzaro</cp:lastModifiedBy>
  <dcterms:modified xsi:type="dcterms:W3CDTF">2012-04-24T02:20:10Z</dcterms:modified>
  <cp:revision>73</cp:revision>
  <dc:subject/>
  <dc:title>Slide 1</dc:title>
</cp:coreProperties>
</file>